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B30E9-FE14-4B79-885A-5D8FB651C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286AC-6FFF-4A5F-A93A-D24A96744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9079A-3B8D-470B-AFAD-C728749B3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C12AD-CEBD-42A9-8296-77F58E823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AFA21-304C-4068-B9D8-DB79D643A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BF3C3-1F7C-402B-BB51-8A40EA228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28C20-84EA-4DAB-81FB-50375574E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708D3-1B96-4DF3-8FD4-DE2803088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63E87-BCC7-4DDC-A2B2-53C61D365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6B1A4-733F-4B38-8AAB-48B8CD6CB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2B4B7-46BE-4024-B34E-7F3AF5AAB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2EB41-BF07-43EA-B479-F1BA8DA71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33FA6-3F14-41F1-8EF5-AA2A6255D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FF8E1-3AE5-4CF6-8395-710CA1E95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01A2A-E4B4-417D-B28D-339FD44B9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6D52D-564D-47A3-81D2-6872803FF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18036-4041-4753-A800-90CDAFDF1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B9B62-CC34-4049-9B29-3B6A74E4A5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108B5-52E9-4750-9D43-0A195342C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15519-E180-4F3D-85C9-7F9E20D88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942EB-01A7-4A62-A95C-638398438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2ACA5-DEB8-4459-9C76-B23B39AAF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769CD-3691-4A7C-9193-D991DE53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62E29-BD06-4214-BF8C-DB9D3E578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0E9E9-AF18-42D5-8EF8-5D580E737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BCF2D-8557-4243-9458-E75A81730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A2D3E-3E30-4BB3-B7F4-919D61238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E85E0-D6BA-491F-8F01-D151EA123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09DAF-D501-4BF2-B08A-C1190AEA2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4AE136-5607-453D-9A60-21507AB972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72AFDC-1A70-4C56-AF7C-D6C0663B9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2324A-EA17-40B1-AF63-2A3148BF4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2EA0B-C5D6-4E6A-849F-A6B7A6A48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9F4CF-93D2-4047-AF73-15930730B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F99B6F-A15B-4547-842D-506E752D7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12A0E-8C30-402A-9604-D79F040E6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280B9-5F88-4C2D-910F-CF6789AC9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5AAD2-7F66-4A4C-ADF3-044CDFE18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E36CD-C9A7-4ED6-93F8-944416779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04131-95A4-4F02-84DF-EF528B0B8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F7EE5-E87F-4592-A5ED-5293A95E49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11905F-6E3D-49B6-B332-5059076F02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65C68A-7533-4972-99D9-15896AECF7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BA0DB-02E6-4BE9-BBA5-7A44E7AE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1104-43D9-4E0D-905E-60953322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22A0-8DDF-487E-A78F-FB2CE08D5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CEF1-D064-438F-90DC-D4024CCC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B8578-156C-4331-9C29-5E084A28B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21CE-82C1-4488-A971-E0321AEB4C81}"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915A-8C36-4F62-B59E-CDBD88222EF5}"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0ADF-28AE-4640-AF2D-395F7C17D52A}"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C844-71E2-4095-A84B-AF0C95E55D83}"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Referente clásico</a:t>
            </a:r>
            <a:br>
              <a:rPr sz="2600"/>
            </a:br>
            <a:r>
              <a:rPr b="0" lang="es-ES" sz="2600" spc="-1" strike="noStrike">
                <a:solidFill>
                  <a:srgbClr val="ffffff"/>
                </a:solidFill>
                <a:latin typeface="Constantia"/>
              </a:rPr>
              <a:t>MªRosario Martínez Rovira</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Edipo</a:t>
            </a:r>
            <a:endParaRPr b="0" lang="en-US" sz="2600" spc="-1" strike="noStrike">
              <a:solidFill>
                <a:srgbClr val="04617b"/>
              </a:solidFill>
              <a:latin typeface="Calibri"/>
            </a:endParaRPr>
          </a:p>
        </p:txBody>
      </p:sp>
      <p:sp>
        <p:nvSpPr>
          <p:cNvPr id="198" name="PlaceHolder 2"/>
          <p:cNvSpPr>
            <a:spLocks noGrp="1"/>
          </p:cNvSpPr>
          <p:nvPr>
            <p:ph/>
          </p:nvPr>
        </p:nvSpPr>
        <p:spPr>
          <a:xfrm>
            <a:off x="685800" y="1676520"/>
            <a:ext cx="2743200" cy="4572000"/>
          </a:xfrm>
          <a:prstGeom prst="rect">
            <a:avLst/>
          </a:prstGeom>
          <a:noFill/>
          <a:ln w="0">
            <a:noFill/>
          </a:ln>
        </p:spPr>
        <p:txBody>
          <a:bodyPr lIns="18360" rIns="18360" anchor="t">
            <a:normAutofit fontScale="91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Sófocles escribió ésta obra mitológica en la que Edipo, príncipe de Tebas e hijo de Layo y Yocasta, es abandonado por sus padres tras saber éstos por medio del Oráculo de Delfos que al crecer, Edipo mataría al padre para casarse con su madre. Layo manda matar al hijo a uno de sus súbditos, pero el hombre no fue capaz y lo dejó abandonado tras perforarle los pies y dejarlo colgado de un árbol.</a:t>
            </a:r>
            <a:endParaRPr b="0" lang="en-US" sz="1800" spc="-1" strike="noStrike">
              <a:solidFill>
                <a:srgbClr val="000000"/>
              </a:solidFill>
              <a:latin typeface="Constantia"/>
            </a:endParaRPr>
          </a:p>
        </p:txBody>
      </p:sp>
      <p:pic>
        <p:nvPicPr>
          <p:cNvPr id="199" name="4 Marcador de contenido" descr="000720620.jpg"/>
          <p:cNvPicPr/>
          <p:nvPr/>
        </p:nvPicPr>
        <p:blipFill>
          <a:blip r:embed="rId1"/>
          <a:stretch/>
        </p:blipFill>
        <p:spPr>
          <a:xfrm>
            <a:off x="5322960" y="2832120"/>
            <a:ext cx="1616040" cy="226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Edipo consultando la esfinge.</a:t>
            </a:r>
            <a:endParaRPr b="0" lang="en-US" sz="2600" spc="-1" strike="noStrike">
              <a:solidFill>
                <a:srgbClr val="04617b"/>
              </a:solidFill>
              <a:latin typeface="Calibri"/>
            </a:endParaRPr>
          </a:p>
        </p:txBody>
      </p:sp>
      <p:sp>
        <p:nvSpPr>
          <p:cNvPr id="201" name="PlaceHolder 2"/>
          <p:cNvSpPr>
            <a:spLocks noGrp="1"/>
          </p:cNvSpPr>
          <p:nvPr>
            <p:ph/>
          </p:nvPr>
        </p:nvSpPr>
        <p:spPr>
          <a:xfrm>
            <a:off x="456840" y="1356840"/>
            <a:ext cx="3543480" cy="4768920"/>
          </a:xfrm>
          <a:prstGeom prst="rect">
            <a:avLst/>
          </a:prstGeom>
          <a:noFill/>
          <a:ln w="0">
            <a:noFill/>
          </a:ln>
        </p:spPr>
        <p:txBody>
          <a:bodyPr lIns="18360" rIns="1836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dipo, consultó a la esfinge y ésta le dice que mataría a su padre en un conflicto y se casaría con su madre sin saberlo.</a:t>
            </a:r>
            <a:endParaRPr b="0" lang="en-US" sz="1800" spc="-1" strike="noStrike">
              <a:solidFill>
                <a:srgbClr val="000000"/>
              </a:solidFill>
              <a:latin typeface="Constantia"/>
            </a:endParaRPr>
          </a:p>
        </p:txBody>
      </p:sp>
      <p:pic>
        <p:nvPicPr>
          <p:cNvPr id="202" name="4 Marcador de contenido" descr="edipo-esfinge.jpg"/>
          <p:cNvPicPr/>
          <p:nvPr/>
        </p:nvPicPr>
        <p:blipFill>
          <a:blip r:embed="rId1"/>
          <a:stretch/>
        </p:blipFill>
        <p:spPr>
          <a:xfrm>
            <a:off x="4530600" y="2347920"/>
            <a:ext cx="3200400" cy="322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Edipo  termina sacándose los ojos</a:t>
            </a:r>
            <a:endParaRPr b="0" lang="en-US" sz="2600" spc="-1" strike="noStrike">
              <a:solidFill>
                <a:srgbClr val="04617b"/>
              </a:solidFill>
              <a:latin typeface="Calibri"/>
            </a:endParaRPr>
          </a:p>
        </p:txBody>
      </p:sp>
      <p:sp>
        <p:nvSpPr>
          <p:cNvPr id="204"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dipo sin saberlo se encuentra con su padre, lo mata y se casa con su madre. Al descubrir la verdad se saca los ojos.</a:t>
            </a:r>
            <a:br>
              <a:rPr sz="1400"/>
            </a:br>
            <a:endParaRPr b="0" lang="en-US" sz="1800" spc="-1" strike="noStrike">
              <a:solidFill>
                <a:srgbClr val="000000"/>
              </a:solidFill>
              <a:latin typeface="Constantia"/>
            </a:endParaRPr>
          </a:p>
        </p:txBody>
      </p:sp>
      <p:pic>
        <p:nvPicPr>
          <p:cNvPr id="205" name="4 Marcador de contenido" descr="edipo_re_freud_medaglia_telepatia.jpg"/>
          <p:cNvPicPr/>
          <p:nvPr/>
        </p:nvPicPr>
        <p:blipFill>
          <a:blip r:embed="rId1"/>
          <a:stretch/>
        </p:blipFill>
        <p:spPr>
          <a:xfrm>
            <a:off x="4714920" y="2143080"/>
            <a:ext cx="320184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6 Título" descr=""/>
          <p:cNvPicPr/>
          <p:nvPr/>
        </p:nvPicPr>
        <p:blipFill>
          <a:blip r:embed="rId1"/>
          <a:stretch/>
        </p:blipFill>
        <p:spPr>
          <a:xfrm>
            <a:off x="530280" y="1255680"/>
            <a:ext cx="846756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SINOPSIS</a:t>
            </a:r>
            <a:endParaRPr b="0" lang="en-US" sz="2600" spc="-1" strike="noStrike">
              <a:solidFill>
                <a:srgbClr val="04617b"/>
              </a:solidFill>
              <a:latin typeface="Calibri"/>
            </a:endParaRPr>
          </a:p>
        </p:txBody>
      </p:sp>
      <p:sp>
        <p:nvSpPr>
          <p:cNvPr id="208" name="PlaceHolder 2"/>
          <p:cNvSpPr>
            <a:spLocks noGrp="1"/>
          </p:cNvSpPr>
          <p:nvPr>
            <p:ph/>
          </p:nvPr>
        </p:nvSpPr>
        <p:spPr>
          <a:xfrm>
            <a:off x="685800" y="1676520"/>
            <a:ext cx="2743200" cy="4572000"/>
          </a:xfrm>
          <a:prstGeom prst="rect">
            <a:avLst/>
          </a:prstGeom>
          <a:noFill/>
          <a:ln w="0">
            <a:noFill/>
          </a:ln>
        </p:spPr>
        <p:txBody>
          <a:bodyPr lIns="18360" rIns="18360" anchor="t">
            <a:normAutofit fontScale="96000"/>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nstantia"/>
              </a:rPr>
              <a:t>Lenny es un periodista deportivo y Amanda una joven galerista de arte. Los dos llevan ya varios años casados pero no tienen hijos, tema que obsesiona a Amanda, quien después de mucho insistir consigue hacer realidad su sueño adoptando a un recién nacido. Con el paso del tiempo, Lenny se ha hecho por fin a la idea de ser padre y, embobado con la inteligencia del niño, llega al convencimiento de que su madre biológica debía ser también una persona superdotada. En un momento en que su matrimonio atraviesa por un momento crítico, Lenny concibe un temerario plan: descubrir a la verdadera madre de su hijo. </a:t>
            </a:r>
            <a:br>
              <a:rPr sz="1300"/>
            </a:br>
            <a:endParaRPr b="0" lang="en-US" sz="1500" spc="-1" strike="noStrike">
              <a:solidFill>
                <a:srgbClr val="000000"/>
              </a:solidFill>
              <a:latin typeface="Constanti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Constantia"/>
            </a:endParaRPr>
          </a:p>
        </p:txBody>
      </p:sp>
      <p:pic>
        <p:nvPicPr>
          <p:cNvPr id="209" name="4 Marcador de contenido" descr="afrodita-1.jpg"/>
          <p:cNvPicPr/>
          <p:nvPr/>
        </p:nvPicPr>
        <p:blipFill>
          <a:blip r:embed="rId1"/>
          <a:stretch/>
        </p:blipFill>
        <p:spPr>
          <a:xfrm>
            <a:off x="5054760" y="2481120"/>
            <a:ext cx="215244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4617b"/>
                </a:solidFill>
                <a:latin typeface="Calibri"/>
              </a:rPr>
              <a:t>LA MADRE DE SU HIJO</a:t>
            </a:r>
            <a:endParaRPr b="0" lang="en-US" sz="2600" spc="-1" strike="noStrike">
              <a:solidFill>
                <a:srgbClr val="04617b"/>
              </a:solidFill>
              <a:latin typeface="Calibri"/>
            </a:endParaRPr>
          </a:p>
        </p:txBody>
      </p:sp>
      <p:sp>
        <p:nvSpPr>
          <p:cNvPr id="211"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inda Ash, prostituta, que tuvo un hijo que dio en adopción y es adoptado por Lenny. Y Lenny inicia una investigación para averiguar quien es y las pistas le dan a que Linda Ash es su madre.</a:t>
            </a:r>
            <a:endParaRPr b="0" lang="en-US" sz="1800" spc="-1" strike="noStrike">
              <a:solidFill>
                <a:srgbClr val="000000"/>
              </a:solidFill>
              <a:latin typeface="Constantia"/>
            </a:endParaRPr>
          </a:p>
        </p:txBody>
      </p:sp>
      <p:pic>
        <p:nvPicPr>
          <p:cNvPr id="212" name="4 Marcador de contenido" descr="afrodita-1.jpg"/>
          <p:cNvPicPr/>
          <p:nvPr/>
        </p:nvPicPr>
        <p:blipFill>
          <a:blip r:embed="rId1"/>
          <a:stretch/>
        </p:blipFill>
        <p:spPr>
          <a:xfrm>
            <a:off x="3844800" y="2481120"/>
            <a:ext cx="4572000" cy="29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Éjemplos de películas a las que evoluciona el referente de Edipo</a:t>
            </a:r>
            <a:endParaRPr b="0" lang="en-US" sz="5000" spc="-1" strike="noStrike">
              <a:solidFill>
                <a:srgbClr val="04617b"/>
              </a:solidFill>
              <a:latin typeface="Calibri"/>
            </a:endParaRPr>
          </a:p>
        </p:txBody>
      </p:sp>
      <p:sp>
        <p:nvSpPr>
          <p:cNvPr id="214"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4617b"/>
                </a:solidFill>
                <a:latin typeface="Constantia"/>
              </a:rPr>
              <a:t>Un día de furia</a:t>
            </a:r>
            <a:endParaRPr b="0" lang="en-US" sz="2400" spc="-1" strike="noStrike">
              <a:solidFill>
                <a:srgbClr val="000000"/>
              </a:solidFill>
              <a:latin typeface="Constantia"/>
            </a:endParaRPr>
          </a:p>
        </p:txBody>
      </p:sp>
      <p:sp>
        <p:nvSpPr>
          <p:cNvPr id="215"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4617b"/>
                </a:solidFill>
                <a:latin typeface="Constantia"/>
              </a:rPr>
              <a:t>La mujer Barbuda </a:t>
            </a:r>
            <a:endParaRPr b="0" lang="en-US" sz="2400" spc="-1" strike="noStrike">
              <a:solidFill>
                <a:srgbClr val="000000"/>
              </a:solidFill>
              <a:latin typeface="Constantia"/>
            </a:endParaRPr>
          </a:p>
        </p:txBody>
      </p:sp>
      <p:pic>
        <p:nvPicPr>
          <p:cNvPr id="216" name="6 Marcador de contenido" descr="reencarnacion01.jpg"/>
          <p:cNvPicPr/>
          <p:nvPr/>
        </p:nvPicPr>
        <p:blipFill>
          <a:blip r:embed="rId1"/>
          <a:stretch/>
        </p:blipFill>
        <p:spPr>
          <a:xfrm>
            <a:off x="457200" y="3090960"/>
            <a:ext cx="4040280" cy="2693880"/>
          </a:xfrm>
          <a:prstGeom prst="rect">
            <a:avLst/>
          </a:prstGeom>
          <a:ln w="0">
            <a:noFill/>
          </a:ln>
        </p:spPr>
      </p:pic>
      <p:pic>
        <p:nvPicPr>
          <p:cNvPr id="217" name="7 Marcador de contenido" descr="mujer_barbuda-1.jpg"/>
          <p:cNvPicPr/>
          <p:nvPr/>
        </p:nvPicPr>
        <p:blipFill>
          <a:blip r:embed="rId2"/>
          <a:stretch/>
        </p:blipFill>
        <p:spPr>
          <a:xfrm>
            <a:off x="5356080" y="2514600"/>
            <a:ext cx="2619360" cy="384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1:50:17Z</dcterms:created>
  <dc:creator>SiemprePensandoEnTí</dc:creator>
  <dc:description/>
  <dc:language>en-US</dc:language>
  <cp:lastModifiedBy>M</cp:lastModifiedBy>
  <dcterms:modified xsi:type="dcterms:W3CDTF">2010-04-26T04:54:46Z</dcterms:modified>
  <cp:revision>9</cp:revision>
  <dc:subject/>
  <dc:title>EDIPO REY</dc:title>
</cp:coreProperties>
</file>